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9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632E-FC72-4790-AFEB-079C551A06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3DE2-5EFF-487A-A8F5-E346C6EEF2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C3C-64D8-4A7F-81A6-A28BEF8D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398-032A-4FBE-AD7F-4ACFDC58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422-6D0A-4B53-BCF7-16A773EA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0AD-56D3-4E37-89E3-43294F68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621-7384-4E09-B805-B36C20E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7CE-8C4F-4DAA-ADB8-82A1433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6C4-C521-48EA-B43C-00673357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CAA-ECEF-4329-88AA-DF121CB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88D-40D1-4FEE-818C-62D558B2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06B-014D-4862-A252-3AFA8732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864-195B-4E28-A894-0F68654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0B1-E127-49C9-91A9-F553256B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275-725C-4324-ACB9-3F79031886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Arial"/>
                <a:ea typeface="黑体"/>
              </a:rPr>
              <a:t>语文园地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3240" y="4365720"/>
            <a:ext cx="52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华山路小学    朱宗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卫岗小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束夏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930960" y="549360"/>
            <a:ext cx="1611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赏小诗 拓思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3419640" y="1341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尖尖弯弯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婆说是嫦娥眼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是小小船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大大圆圆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公说那是玉盘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曲奇饼干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怎么不见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梦里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坐船儿吃饼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947880" y="549360"/>
            <a:ext cx="1748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五：读句子 理解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83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324000" y="1341360"/>
            <a:ext cx="817236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游戏，理解“隐蔽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灰兔为什么很难被发现吗？读一读，想一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请两名同学上台，分别扮演小灰兔和小白兔，玩“捉迷藏”游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⑶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谁能猜出“隐蔽”在这句话中的意思？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提示：隐蔽，借助别的东西遮盖掩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知心朋友，理解“烦恼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明的烦恼吗？请你做小明的知心朋友，读一读句子，体会小明的心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谁能读出小明的烦恼心情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有过烦恼吗？请说一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情境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理解“留连忘返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观风景图片，读句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能给句子换个说法，而意思不变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能将“ 留连忘返”换一个词语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哪些地方曾经让你留连忘返过？你能用上“流连忘返”说一句话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1274760" cy="64620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971640" y="1700280"/>
            <a:ext cx="6840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创设情境 学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假如妈妈不在家，你要去外婆家，怎么让妈妈知道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250920" y="476280"/>
            <a:ext cx="87850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学习范文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确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同学们具体说书写格式有哪些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要点：先写是留给谁的，“妈妈”顶格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再写有什么事情。正文空两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最后写自己的名字和时间。写在右下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6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250920" y="155736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实践练笔 学以致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去办公室还书，老师不在。请你根椐老师提供的情况，练说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写一写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根椐下面的情境，写一份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老师让你通知小芳明天上午九点到学校参加书法小组活动，但是她家里没有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取材生活 用好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生活中，经常会因为各种原因给别人留言，请同学们用好留言条，切记：把事情说清楚，格式要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542880" y="1052640"/>
            <a:ext cx="706284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542880" y="4581360"/>
            <a:ext cx="694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看到雪、米、牛奶了吗？它们都是白色，可是又有不同，你能说出不同的词语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826920" y="4437000"/>
            <a:ext cx="604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仿照泡泡小助手的话，你会把白色换成红色说一说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0660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811080" y="4889520"/>
            <a:ext cx="7056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666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雪白的（墙壁 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火红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金黄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翠绿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163836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975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324000" y="1090440"/>
            <a:ext cx="3036600" cy="18781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5"/>
          <p:cNvSpPr/>
          <p:nvPr/>
        </p:nvSpPr>
        <p:spPr>
          <a:xfrm>
            <a:off x="1547640" y="3003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"/>
          <p:cNvPicPr/>
          <p:nvPr/>
        </p:nvPicPr>
        <p:blipFill>
          <a:blip r:embed="rId2"/>
          <a:stretch/>
        </p:blipFill>
        <p:spPr>
          <a:xfrm>
            <a:off x="4079880" y="1090440"/>
            <a:ext cx="3430440" cy="19130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"/>
          <p:cNvSpPr/>
          <p:nvPr/>
        </p:nvSpPr>
        <p:spPr>
          <a:xfrm>
            <a:off x="5506920" y="30942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苏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" descr=""/>
          <p:cNvPicPr/>
          <p:nvPr/>
        </p:nvPicPr>
        <p:blipFill>
          <a:blip r:embed="rId3"/>
          <a:stretch/>
        </p:blipFill>
        <p:spPr>
          <a:xfrm>
            <a:off x="324000" y="3557520"/>
            <a:ext cx="3024000" cy="2079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1"/>
          <p:cNvSpPr/>
          <p:nvPr/>
        </p:nvSpPr>
        <p:spPr>
          <a:xfrm>
            <a:off x="1251000" y="5672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3" descr=""/>
          <p:cNvPicPr/>
          <p:nvPr/>
        </p:nvPicPr>
        <p:blipFill>
          <a:blip r:embed="rId4"/>
          <a:stretch/>
        </p:blipFill>
        <p:spPr>
          <a:xfrm>
            <a:off x="3936960" y="3567240"/>
            <a:ext cx="357336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4"/>
          <p:cNvSpPr/>
          <p:nvPr/>
        </p:nvSpPr>
        <p:spPr>
          <a:xfrm>
            <a:off x="5564160" y="57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755640" y="3589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说：我喜欢（           ），因为（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709560" y="2664000"/>
            <a:ext cx="7004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屋连屋一条龙，头上乌云滚滚，脚下雷声隆隆。（打一交通工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95280" y="2057400"/>
            <a:ext cx="3816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302400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2"/>
          <a:stretch/>
        </p:blipFill>
        <p:spPr>
          <a:xfrm>
            <a:off x="2700360" y="3749760"/>
            <a:ext cx="32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4" descr=""/>
          <p:cNvPicPr/>
          <p:nvPr/>
        </p:nvPicPr>
        <p:blipFill>
          <a:blip r:embed="rId1"/>
          <a:stretch/>
        </p:blipFill>
        <p:spPr>
          <a:xfrm>
            <a:off x="3635280" y="297000"/>
            <a:ext cx="2081160" cy="71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539640" y="1373040"/>
            <a:ext cx="728532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684360" y="441180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借助拼音，读准字音，读通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合画面，想想他们的家乡是什么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家乡在哪里，美吗？请你说一说、画一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朱宗影  束夏梅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2483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-198360" y="5180040"/>
            <a:ext cx="907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南昌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ɡ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空调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t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限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x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 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g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上铺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ù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硬卧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ò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"/>
          <p:cNvPicPr/>
          <p:nvPr/>
        </p:nvPicPr>
        <p:blipFill>
          <a:blip r:embed="rId1"/>
          <a:srcRect l="0" t="7327" r="527" b="9993"/>
          <a:stretch/>
        </p:blipFill>
        <p:spPr>
          <a:xfrm>
            <a:off x="504720" y="1311120"/>
            <a:ext cx="3346560" cy="3399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2"/>
          <a:srcRect l="8894" t="0" r="0" b="0"/>
          <a:stretch/>
        </p:blipFill>
        <p:spPr>
          <a:xfrm>
            <a:off x="4427640" y="1314360"/>
            <a:ext cx="3024000" cy="3405240"/>
          </a:xfrm>
          <a:prstGeom prst="rect">
            <a:avLst/>
          </a:prstGeom>
          <a:ln w="0">
            <a:noFill/>
          </a:ln>
        </p:spPr>
      </p:pic>
      <p:sp>
        <p:nvSpPr>
          <p:cNvPr id="59" name="矩形 6"/>
          <p:cNvSpPr/>
          <p:nvPr/>
        </p:nvSpPr>
        <p:spPr>
          <a:xfrm>
            <a:off x="1130760" y="47628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读车票，认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rcRect l="0" t="1301" r="0" b="2413"/>
          <a:stretch/>
        </p:blipFill>
        <p:spPr>
          <a:xfrm>
            <a:off x="250920" y="476280"/>
            <a:ext cx="4286160" cy="53290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rcRect l="4145" t="7485" r="2906" b="5637"/>
          <a:stretch/>
        </p:blipFill>
        <p:spPr>
          <a:xfrm>
            <a:off x="4643280" y="1484280"/>
            <a:ext cx="36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57804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555840" y="420840"/>
            <a:ext cx="23205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活动三：汉字宝宝，大搜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2"/>
          <a:srcRect l="0" t="0" r="0" b="30709"/>
          <a:stretch/>
        </p:blipFill>
        <p:spPr>
          <a:xfrm>
            <a:off x="4788000" y="611280"/>
            <a:ext cx="3619440" cy="1881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3"/>
          <a:srcRect l="0" t="0" r="0" b="10602"/>
          <a:stretch/>
        </p:blipFill>
        <p:spPr>
          <a:xfrm>
            <a:off x="5003640" y="2997360"/>
            <a:ext cx="32418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509760" y="2536920"/>
            <a:ext cx="266364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稀奇古怪两只船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没有桨来没有帆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白天载人四处走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 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晚上横卧在床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3348000" y="754200"/>
            <a:ext cx="239076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"/>
          <p:cNvPicPr/>
          <p:nvPr/>
        </p:nvPicPr>
        <p:blipFill>
          <a:blip r:embed="rId2"/>
          <a:srcRect l="0" t="47901" r="0" b="3799"/>
          <a:stretch/>
        </p:blipFill>
        <p:spPr>
          <a:xfrm>
            <a:off x="3851280" y="2998800"/>
            <a:ext cx="3552840" cy="1714320"/>
          </a:xfrm>
          <a:prstGeom prst="rect">
            <a:avLst/>
          </a:prstGeom>
          <a:ln w="0">
            <a:noFill/>
          </a:ln>
        </p:spPr>
      </p:pic>
      <p:sp>
        <p:nvSpPr>
          <p:cNvPr id="69" name="矩形 7"/>
          <p:cNvSpPr/>
          <p:nvPr/>
        </p:nvSpPr>
        <p:spPr>
          <a:xfrm>
            <a:off x="1810800" y="1739880"/>
            <a:ext cx="409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思想气泡: 云 2"/>
          <p:cNvSpPr/>
          <p:nvPr/>
        </p:nvSpPr>
        <p:spPr>
          <a:xfrm rot="21013800">
            <a:off x="-15840" y="5314680"/>
            <a:ext cx="3105000" cy="8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825120" y="45576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我会想，我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" descr=""/>
          <p:cNvPicPr/>
          <p:nvPr/>
        </p:nvPicPr>
        <p:blipFill>
          <a:blip r:embed="rId1"/>
          <a:stretch/>
        </p:blipFill>
        <p:spPr>
          <a:xfrm>
            <a:off x="352440" y="1147680"/>
            <a:ext cx="2635200" cy="1754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"/>
          <p:cNvPicPr/>
          <p:nvPr/>
        </p:nvPicPr>
        <p:blipFill>
          <a:blip r:embed="rId2"/>
          <a:srcRect l="4726" t="6858" r="3925" b="22600"/>
          <a:stretch/>
        </p:blipFill>
        <p:spPr>
          <a:xfrm>
            <a:off x="3362400" y="1062000"/>
            <a:ext cx="2700360" cy="18399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" descr=""/>
          <p:cNvPicPr/>
          <p:nvPr/>
        </p:nvPicPr>
        <p:blipFill>
          <a:blip r:embed="rId3"/>
          <a:srcRect l="2749" t="16403" r="11413" b="6599"/>
          <a:stretch/>
        </p:blipFill>
        <p:spPr>
          <a:xfrm>
            <a:off x="412920" y="3083040"/>
            <a:ext cx="2587320" cy="20383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1" descr=""/>
          <p:cNvPicPr/>
          <p:nvPr/>
        </p:nvPicPr>
        <p:blipFill>
          <a:blip r:embed="rId4"/>
          <a:srcRect l="14562" t="0" r="14562" b="2752"/>
          <a:stretch/>
        </p:blipFill>
        <p:spPr>
          <a:xfrm>
            <a:off x="3614760" y="3081240"/>
            <a:ext cx="2158920" cy="2235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"/>
          <p:cNvPicPr/>
          <p:nvPr/>
        </p:nvPicPr>
        <p:blipFill>
          <a:blip r:embed="rId5"/>
          <a:srcRect l="0" t="9838" r="0" b="28747"/>
          <a:stretch/>
        </p:blipFill>
        <p:spPr>
          <a:xfrm>
            <a:off x="6372360" y="102888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"/>
          <p:cNvPicPr/>
          <p:nvPr/>
        </p:nvPicPr>
        <p:blipFill>
          <a:blip r:embed="rId6"/>
          <a:stretch/>
        </p:blipFill>
        <p:spPr>
          <a:xfrm>
            <a:off x="6443640" y="3083040"/>
            <a:ext cx="2032200" cy="22622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6"/>
          <p:cNvSpPr/>
          <p:nvPr/>
        </p:nvSpPr>
        <p:spPr>
          <a:xfrm>
            <a:off x="611280" y="548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   ）像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6:42:52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